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2"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move the slide</a:t>
            </a:r>
            <a:endParaRPr b="0" lang="en-US" sz="4400" spc="-1" strike="noStrike">
              <a:solidFill>
                <a:srgbClr val="1c86c0"/>
              </a:solidFill>
              <a:latin typeface="Microsoft Sans Serif"/>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6"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4AC4-DD00-4BE0-8470-18732909A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1A19-8D8E-4165-849E-643C10C34E2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EBB8-AC89-435B-9C57-B076C4347AC3}" type="slidenum">
              <a:rPr b="0" lang="ru-RU" sz="1200" spc="-1" strike="noStrike">
                <a:solidFill>
                  <a:srgbClr val="000000"/>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7A08FF-A3CA-4A24-8F8A-456A9E599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6F703-0C6D-4108-9725-FD0D2CA3C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22E3B-918D-403A-89A1-210EB609D8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E6568-541F-4D10-8DF1-E35BE46BD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4"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E3A1F-C6BC-40B6-8CE8-89D445549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8"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779CD-3666-4AA0-9DDB-F94F28085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0"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1"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9728C6-2052-46EE-A3B6-F3FD38FBE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6"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33CDAD-C813-430B-B888-AB084CDCB5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8"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9"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0"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1"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2"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3"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799E8D-A326-492B-B8E5-00A039B2D5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CC81CD-7C97-45D0-9083-6D6B0F12C6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7"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031DA-8A77-4E71-A576-ED903041A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9"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D00E0-4502-44D5-BE86-5DC4E03CA4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03054-174C-4FBF-B268-462D21B1F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733107-105F-4CEE-B4D3-00BE4D510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7F08C-CAA1-4AC8-AD55-5D6CF2C66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A602E-D7AB-4699-B2D4-3CB7D14B0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0"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2"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08F7DE-D9A4-44AA-91C9-3C8A225C6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6"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BF193A-5E46-40CF-A8D0-00F6475B2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8"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9"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36216-DBF4-4D9B-81C5-403B87BE71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4"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28228-856F-4ED7-B661-D649B47B21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6"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7"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8"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9"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0"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1"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4302E2-57AC-4D29-8700-341525B58D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E0941A-39B1-4EC7-B198-AD6795B39B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23B139-C07E-49A0-96D8-8067E6F504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97BD74-E415-46CF-A168-15C2985B95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DCD6AF-2B25-4B06-90B7-61D09C7A99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EEC2CDF-2B1D-4440-A6A6-81DC540F11A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F829962-D954-4EB2-B65D-A5EA817D423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3D4CAE-C0CA-41FD-9E30-5AAE38EB64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8BEF2D-F9EA-433F-BBCB-72380A93E4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FF02D0-3318-4CE1-BC2E-FE8337C8B9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8E2F8-9D56-405E-9BC4-3B579841E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755B76-7FE7-4C84-8359-1DB46DE86C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36BB858-06D8-4385-96C0-324C41B1A11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9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63F819-8893-40AA-A7C6-B7C04586C16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3D99E-4C2C-41C9-B9CC-14195180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E04A-DBA2-462A-A366-B653264B6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FA58C-0AE1-4ED2-B8A1-E77882478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E50F-F01F-41E0-A5FB-9FECE272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634E8-F774-4584-AA8E-7D77BA40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383F-77D0-4DA5-AAF4-CF22EA836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73CD-D0AD-44CE-8C75-FFA625FF9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C333-4FDA-4C5B-B38A-49BEE54C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C004-BC31-474A-970E-A0AA2308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B2CD0-D2F9-48C6-A969-091D5464C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8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0392-4BD7-43F4-83A8-ECAC47923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BF053-485D-48EC-AD64-DC4960E0C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2"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FF0E-44D0-47C5-BAA6-B12042A69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4"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BA7A9-A3FF-4109-A101-CCC03848F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39925-1382-461D-A5B9-3A558368F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962AB-DCDF-45BE-8AA2-4D1A64AEB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287BB-6C2A-42D9-B716-9D25A6445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21E7-2FB3-4216-AC36-CB92D263A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AF910-FD81-4020-BBF8-C23F7717F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1"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2DC59-0C78-4C7B-B64C-016914CE6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3"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D39D0-505A-4D04-BB4C-6B7087F70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9"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91ECD-E47C-434F-BC15-61C07F8D6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1"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2"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3"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4"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5"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6"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2BE6E-7660-4A09-85BB-126361DE8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0"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2"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5"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9"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1"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2"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7"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9"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0"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1"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2"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3"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4"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FB388-C991-4C35-8998-AC5BCC6CD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78"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DB935-9811-4FBC-B73F-8483D37F9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0"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3EC19-9BED-49AB-BB8D-EE01105A8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21B5B-F704-4CF3-857C-34831C0CD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6F637-EBBF-4DED-80E2-F4CB5B2D1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1A05C-DAA2-46E1-83B2-83C2EE8EF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0D23A-61CB-430B-9524-D977AF069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3"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38B73-02F8-4B45-87B9-D75162513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7"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5141-83C7-4714-BA26-0974BED55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9"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0"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80BBD-34C9-4798-AAD4-93F928665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5"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AED4C-E6C4-4FE9-957C-F10DE63AC8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7"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8"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9"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0"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1"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2"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BCC24-329C-4571-97F0-BEA8EFBDB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1F88A-F2B7-43FF-B856-73A7BF04A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D1988-09E3-4B19-924F-F126328E7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106F7-CE75-4BB3-A3CD-BB3CEEDF8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87DB5-C283-48AC-BF1C-74D79A9E1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7C12CC-5D97-4EBD-B883-002278A9C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160B8-94BD-444C-9A85-BDA9D21CE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5FE85-D7B5-4F0F-BED7-846B1CC07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FEEF3-B59B-42C2-B624-7977DDF4D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CF44A-C4C7-4F7E-9BF3-54B2C449A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0DEE6-7495-4203-8F42-6E198EAFE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55A7F1-2591-4EC1-A7DE-AE54A7FFA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5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20D1C7-0435-489A-8241-28C49FD80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E446F4-8234-4218-93D3-3F6FDD462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97CBC-07ED-4AEC-B066-52ECF2BE9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9CAE12-6E29-4C55-9A8C-3DA2254B5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7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8097E-755F-4534-8A8F-946B00BFE3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E36D9-42F3-4BD8-B295-BC4721D16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955FB-837B-41E2-AE6B-ACD06617F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AACBB-3A96-450F-A62A-33DEACD18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F3CA4-C167-4305-8043-1333634DC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51D4E-9964-48F9-A43A-E539342A7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A4E0A-AA37-4962-9400-F3CAB7873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A691A-D42F-4E23-92A0-313B26EE76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0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77665A-704D-4809-8615-A1089C946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D5CDCE-13E9-4B0D-953A-3A7E6C409F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9D012-8FE5-4021-99F3-A5BA43DB8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5C11F-9BBD-45AB-BF88-C14050352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2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C411C-3584-49EC-9DC5-F1816C1F7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87FB50-70D2-4894-8265-28A5677F4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BBA7A-5E89-4788-AD12-B68BCA8BC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59F1E-F42E-438B-839C-5B55B6E0A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D7D5C-6026-45E9-A68B-A3BBAD579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D6C0C-AA7B-4955-B22A-0FBABA493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983B4-90D5-4F0D-81DA-CBE28916B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F7A8D-AAD5-40D2-AA64-556E9F8759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5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EBFC14-23F8-476D-8604-080881D1E4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C85A2C-ED31-4916-910F-E9E7050B0F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69"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9DA76-1C3C-4FED-B950-212A3AE5D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1"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BDFFD-9FA3-4EA1-8B15-55977F892E2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05" name="Group 14"/>
          <p:cNvGrpSpPr/>
          <p:nvPr/>
        </p:nvGrpSpPr>
        <p:grpSpPr>
          <a:xfrm>
            <a:off x="210960" y="714240"/>
            <a:ext cx="8723520" cy="1332000"/>
            <a:chOff x="210960" y="714240"/>
            <a:chExt cx="8723520" cy="1332000"/>
          </a:xfrm>
        </p:grpSpPr>
        <p:sp>
          <p:nvSpPr>
            <p:cNvPr id="406"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7"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8"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9"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0"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1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13"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4"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5"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7E59-C0D5-4CFD-AF5D-4503E4DD4B96}"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53" name="Group 15"/>
          <p:cNvGrpSpPr/>
          <p:nvPr/>
        </p:nvGrpSpPr>
        <p:grpSpPr>
          <a:xfrm>
            <a:off x="210960" y="1679400"/>
            <a:ext cx="8723520" cy="1330560"/>
            <a:chOff x="210960" y="1679400"/>
            <a:chExt cx="8723520" cy="1330560"/>
          </a:xfrm>
        </p:grpSpPr>
        <p:sp>
          <p:nvSpPr>
            <p:cNvPr id="45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6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6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6F1A-D542-404A-904B-4E320733527C}"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9" name="Group 15"/>
          <p:cNvGrpSpPr/>
          <p:nvPr/>
        </p:nvGrpSpPr>
        <p:grpSpPr>
          <a:xfrm>
            <a:off x="210960" y="1679400"/>
            <a:ext cx="8723520" cy="1330560"/>
            <a:chOff x="210960" y="1679400"/>
            <a:chExt cx="8723520" cy="1330560"/>
          </a:xfrm>
        </p:grpSpPr>
        <p:sp>
          <p:nvSpPr>
            <p:cNvPr id="40"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2"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3"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4"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7"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8"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AB90-9F4E-46D6-A993-1F553E0E06A5}"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9"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780E-DCFD-44AC-9EE1-3C1ADE9FCEF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28"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166" name="Group 9"/>
          <p:cNvGrpSpPr/>
          <p:nvPr/>
        </p:nvGrpSpPr>
        <p:grpSpPr>
          <a:xfrm>
            <a:off x="210960" y="5354640"/>
            <a:ext cx="8723520" cy="1330200"/>
            <a:chOff x="210960" y="5354640"/>
            <a:chExt cx="8723520" cy="1330200"/>
          </a:xfrm>
        </p:grpSpPr>
        <p:sp>
          <p:nvSpPr>
            <p:cNvPr id="16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7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5A03-8AE1-43B5-B5DA-B75CFCBD3E57}"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14"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5"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6"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7"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8"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2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21"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2"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3"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6FB4-C0A0-4E9A-A727-788613CF3FDD}"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261" name="Group 5"/>
          <p:cNvGrpSpPr/>
          <p:nvPr/>
        </p:nvGrpSpPr>
        <p:grpSpPr>
          <a:xfrm>
            <a:off x="210960" y="714240"/>
            <a:ext cx="8723520" cy="1330560"/>
            <a:chOff x="210960" y="714240"/>
            <a:chExt cx="8723520" cy="1330560"/>
          </a:xfrm>
        </p:grpSpPr>
        <p:sp>
          <p:nvSpPr>
            <p:cNvPr id="262"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3"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4"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5"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6"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6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69"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0"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1"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1AA7-497E-4C24-965A-520ADA830B4D}"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09" name="Group 23"/>
          <p:cNvGrpSpPr/>
          <p:nvPr/>
        </p:nvGrpSpPr>
        <p:grpSpPr>
          <a:xfrm>
            <a:off x="210960" y="714240"/>
            <a:ext cx="8723520" cy="1332000"/>
            <a:chOff x="210960" y="714240"/>
            <a:chExt cx="8723520" cy="1332000"/>
          </a:xfrm>
        </p:grpSpPr>
        <p:sp>
          <p:nvSpPr>
            <p:cNvPr id="31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4"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1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1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F41C-1FF2-42A2-B3A4-8E2560847500}"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57" name="Group 8"/>
          <p:cNvGrpSpPr/>
          <p:nvPr/>
        </p:nvGrpSpPr>
        <p:grpSpPr>
          <a:xfrm>
            <a:off x="210960" y="5354640"/>
            <a:ext cx="8723520" cy="1330200"/>
            <a:chOff x="210960" y="5354640"/>
            <a:chExt cx="8723520" cy="1330200"/>
          </a:xfrm>
        </p:grpSpPr>
        <p:sp>
          <p:nvSpPr>
            <p:cNvPr id="358"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59"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0"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1"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2"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6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65"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6"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6293-DAF6-4B52-A889-6B50E394F27F}"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476280"/>
            <a:ext cx="7086600" cy="1265040"/>
          </a:xfrm>
          <a:prstGeom prst="rect">
            <a:avLst/>
          </a:prstGeom>
          <a:noFill/>
          <a:ln w="0">
            <a:noFill/>
          </a:ln>
          <a:effectLst>
            <a:outerShdw dist="0" dir="0" blurRad="0" rotWithShape="0">
              <a:srgbClr val="0b3dcb"/>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2d050"/>
                </a:solidFill>
                <a:latin typeface="Microsoft Sans Serif"/>
              </a:rPr>
              <a:t>Первый брифинг </a:t>
            </a:r>
            <a:br>
              <a:rPr sz="2800"/>
            </a:br>
            <a:r>
              <a:rPr b="1" lang="ru-RU" sz="2800" spc="-1" strike="noStrike">
                <a:solidFill>
                  <a:srgbClr val="92d050"/>
                </a:solidFill>
                <a:latin typeface="Microsoft Sans Serif"/>
              </a:rPr>
              <a:t>«Открытый разговор: родители!»</a:t>
            </a:r>
            <a:br>
              <a:rPr sz="2800"/>
            </a:br>
            <a:endParaRPr b="0" lang="en-US" sz="2800" spc="-1" strike="noStrike">
              <a:solidFill>
                <a:srgbClr val="1c86c0"/>
              </a:solidFill>
              <a:latin typeface="Microsoft Sans Serif"/>
            </a:endParaRPr>
          </a:p>
        </p:txBody>
      </p:sp>
      <p:sp>
        <p:nvSpPr>
          <p:cNvPr id="508" name="PlaceHolder 2"/>
          <p:cNvSpPr>
            <a:spLocks noGrp="1"/>
          </p:cNvSpPr>
          <p:nvPr>
            <p:ph/>
          </p:nvPr>
        </p:nvSpPr>
        <p:spPr>
          <a:xfrm>
            <a:off x="7184880" y="6308280"/>
            <a:ext cx="1635120" cy="360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fac25"/>
                </a:solidFill>
                <a:latin typeface="Verdana"/>
                <a:ea typeface="굴림"/>
              </a:rPr>
              <a:t>19.11.2019</a:t>
            </a:r>
            <a:endParaRPr b="0" lang="en-US" sz="1600" spc="-1" strike="noStrike">
              <a:solidFill>
                <a:srgbClr val="4d4d4d"/>
              </a:solidFill>
              <a:latin typeface="Microsoft Sans Serif"/>
            </a:endParaRPr>
          </a:p>
        </p:txBody>
      </p:sp>
      <p:sp>
        <p:nvSpPr>
          <p:cNvPr id="509" name="Rectangle 2"/>
          <p:cNvSpPr/>
          <p:nvPr/>
        </p:nvSpPr>
        <p:spPr>
          <a:xfrm>
            <a:off x="2411280" y="2405160"/>
            <a:ext cx="6408720" cy="2952720"/>
          </a:xfrm>
          <a:prstGeom prst="rect">
            <a:avLst/>
          </a:prstGeom>
          <a:noFill/>
          <a:ln w="0">
            <a:noFill/>
          </a:ln>
          <a:effectLst>
            <a:outerShdw dist="0" dir="0" blurRad="0" rotWithShape="0">
              <a:srgbClr val="0b3dcb"/>
            </a:outerShdw>
          </a:effectLst>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Вакцинопрофилактика обучающихся. </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Риски оправданы</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 Или ?»</a:t>
            </a:r>
            <a:br>
              <a:rPr sz="4400"/>
            </a:b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Прямоугольник 1"/>
          <p:cNvSpPr/>
          <p:nvPr/>
        </p:nvSpPr>
        <p:spPr>
          <a:xfrm>
            <a:off x="1752480" y="127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2352-08 Профилактика клещевого вирусного энцефалита.</a:t>
            </a:r>
            <a:endParaRPr b="0" lang="en-US" sz="1800" spc="-1" strike="noStrike">
              <a:solidFill>
                <a:srgbClr val="4d4d4d"/>
              </a:solidFill>
              <a:latin typeface="Arial"/>
            </a:endParaRPr>
          </a:p>
        </p:txBody>
      </p:sp>
      <p:sp>
        <p:nvSpPr>
          <p:cNvPr id="533" name="Прямоугольник 5"/>
          <p:cNvSpPr/>
          <p:nvPr/>
        </p:nvSpPr>
        <p:spPr>
          <a:xfrm>
            <a:off x="1752480" y="28162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825-10 Профилактика вирусного гепатита A.</a:t>
            </a:r>
            <a:endParaRPr b="0" lang="en-US" sz="1800" spc="-1" strike="noStrike">
              <a:solidFill>
                <a:srgbClr val="4d4d4d"/>
              </a:solidFill>
              <a:latin typeface="Arial"/>
            </a:endParaRPr>
          </a:p>
        </p:txBody>
      </p:sp>
      <p:sp>
        <p:nvSpPr>
          <p:cNvPr id="534" name="Прямоугольник 7"/>
          <p:cNvSpPr/>
          <p:nvPr/>
        </p:nvSpPr>
        <p:spPr>
          <a:xfrm>
            <a:off x="1752480" y="380988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1.2341-08 Профилактика вирусного гепатита В.</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533520" y="838080"/>
            <a:ext cx="82296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6" name="Прямоугольник 1"/>
          <p:cNvSpPr/>
          <p:nvPr/>
        </p:nvSpPr>
        <p:spPr>
          <a:xfrm>
            <a:off x="1143000" y="81432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ктуальность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изкий охват профилактическими прививками против ветряной оспы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оне высокого уровня заболеваемости ветряной оспой. </a:t>
            </a:r>
            <a:endParaRPr b="0" lang="en-US" sz="3200" spc="-1" strike="noStrike">
              <a:solidFill>
                <a:srgbClr val="4d4d4d"/>
              </a:solidFill>
              <a:latin typeface="Arial"/>
            </a:endParaRPr>
          </a:p>
        </p:txBody>
      </p:sp>
      <p:pic>
        <p:nvPicPr>
          <p:cNvPr id="537" name="Рисунок 1" descr=""/>
          <p:cNvPicPr/>
          <p:nvPr/>
        </p:nvPicPr>
        <p:blipFill>
          <a:blip r:embed="rId1"/>
          <a:stretch/>
        </p:blipFill>
        <p:spPr>
          <a:xfrm>
            <a:off x="2743200" y="4419720"/>
            <a:ext cx="3352680" cy="2057400"/>
          </a:xfrm>
          <a:prstGeom prst="rect">
            <a:avLst/>
          </a:prstGeom>
          <a:ln w="0">
            <a:noFill/>
          </a:ln>
        </p:spPr>
      </p:pic>
      <p:pic>
        <p:nvPicPr>
          <p:cNvPr id="538" name="Рисунок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Диаграмма 3"/>
          <p:cNvGraphicFramePr/>
          <p:nvPr/>
        </p:nvGraphicFramePr>
        <p:xfrm>
          <a:off x="863640" y="787320"/>
          <a:ext cx="7111800" cy="5715000"/>
        </p:xfrm>
        <a:graphic>
          <a:graphicData uri="http://schemas.openxmlformats.org/presentationml/2006/ole">
            <p:oleObj progId="Excel.Sheet.12" r:id="rId1" spid="">
              <p:embed/>
              <p:pic>
                <p:nvPicPr>
                  <p:cNvPr id="540" name="Диаграмма 3" descr=""/>
                  <p:cNvPicPr/>
                  <p:nvPr/>
                </p:nvPicPr>
                <p:blipFill>
                  <a:blip r:embed="rId2"/>
                  <a:stretch/>
                </p:blipFill>
                <p:spPr>
                  <a:xfrm>
                    <a:off x="863640" y="787320"/>
                    <a:ext cx="7111800" cy="5715000"/>
                  </a:xfrm>
                  <a:prstGeom prst="rect">
                    <a:avLst/>
                  </a:prstGeom>
                  <a:ln w="0">
                    <a:noFill/>
                  </a:ln>
                </p:spPr>
              </p:pic>
            </p:oleObj>
          </a:graphicData>
        </a:graphic>
      </p:graphicFrame>
      <p:pic>
        <p:nvPicPr>
          <p:cNvPr id="541" name="Рисунок 1" descr=""/>
          <p:cNvPicPr/>
          <p:nvPr/>
        </p:nvPicPr>
        <p:blipFill>
          <a:blip r:embed="rId3"/>
          <a:stretch/>
        </p:blipFill>
        <p:spPr>
          <a:xfrm>
            <a:off x="12600" y="255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Диаграмма 4"/>
          <p:cNvGraphicFramePr/>
          <p:nvPr/>
        </p:nvGraphicFramePr>
        <p:xfrm>
          <a:off x="1092240" y="1168560"/>
          <a:ext cx="7035840" cy="4978080"/>
        </p:xfrm>
        <a:graphic>
          <a:graphicData uri="http://schemas.openxmlformats.org/presentationml/2006/ole">
            <p:oleObj progId="Excel.Sheet.12" r:id="rId1" spid="">
              <p:embed/>
              <p:pic>
                <p:nvPicPr>
                  <p:cNvPr id="543" name="Диаграмма 4" descr=""/>
                  <p:cNvPicPr/>
                  <p:nvPr/>
                </p:nvPicPr>
                <p:blipFill>
                  <a:blip r:embed="rId2"/>
                  <a:stretch/>
                </p:blipFill>
                <p:spPr>
                  <a:xfrm>
                    <a:off x="1092240" y="1168560"/>
                    <a:ext cx="7035840" cy="49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Календарь прививок. Медицинские аспекты вакцинопрофилактики.</a:t>
            </a:r>
            <a:endParaRPr b="0" lang="en-US" sz="3200" spc="-1" strike="noStrike">
              <a:solidFill>
                <a:srgbClr val="1c86c0"/>
              </a:solidFill>
              <a:latin typeface="Microsoft Sans Serif"/>
            </a:endParaRPr>
          </a:p>
        </p:txBody>
      </p:sp>
      <p:sp>
        <p:nvSpPr>
          <p:cNvPr id="545" name=""/>
          <p:cNvSpPr txBox="1"/>
          <p:nvPr/>
        </p:nvSpPr>
        <p:spPr>
          <a:xfrm>
            <a:off x="2124000" y="2565000"/>
            <a:ext cx="6664320" cy="2484360"/>
          </a:xfrm>
          <a:prstGeom prst="rect">
            <a:avLst/>
          </a:prstGeom>
          <a:noFill/>
          <a:ln w="0">
            <a:noFill/>
          </a:ln>
        </p:spPr>
        <p:txBody>
          <a:bodyPr anchor="t">
            <a:normAutofit fontScale="89000"/>
          </a:bodyPr>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Челпанова Мария Александровна, </a:t>
            </a:r>
            <a:r>
              <a:rPr b="0" lang="ru-RU" sz="2800" spc="-1" strike="noStrike">
                <a:solidFill>
                  <a:srgbClr val="262626"/>
                </a:solidFill>
                <a:latin typeface="Microsoft Sans Serif"/>
              </a:rPr>
              <a:t>заведующая кабинетом профилактики инфекционных заболеваний МАУ «ДГБ № 8», врач аллерголог-иммунолог;</a:t>
            </a:r>
            <a:endParaRPr b="0" lang="en-US" sz="2800" spc="-1" strike="noStrike">
              <a:solidFill>
                <a:srgbClr val="4d4d4d"/>
              </a:solidFill>
              <a:latin typeface="Microsoft Sans Serif"/>
            </a:endParaRPr>
          </a:p>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Рыбячева Ольга Юрьевна, </a:t>
            </a:r>
            <a:r>
              <a:rPr b="0" lang="ru-RU" sz="2800" spc="-1" strike="noStrike">
                <a:solidFill>
                  <a:srgbClr val="262626"/>
                </a:solidFill>
                <a:latin typeface="Microsoft Sans Serif"/>
              </a:rPr>
              <a:t>специалист по социальной работе МАУ «ДГБ № 8»</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26920" y="765000"/>
            <a:ext cx="7772400" cy="177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imes New Roman"/>
                <a:ea typeface="Times New Roman"/>
              </a:rPr>
              <a:t>Вакцинация- самый эффективный способ защиты от инфекций</a:t>
            </a:r>
            <a:endParaRPr b="0" lang="en-US" sz="3500" spc="-1" strike="noStrike">
              <a:solidFill>
                <a:srgbClr val="ffffff"/>
              </a:solidFill>
              <a:latin typeface="Candara"/>
            </a:endParaRPr>
          </a:p>
        </p:txBody>
      </p:sp>
      <p:sp>
        <p:nvSpPr>
          <p:cNvPr id="547" name="PlaceHolder 2"/>
          <p:cNvSpPr>
            <a:spLocks noGrp="1"/>
          </p:cNvSpPr>
          <p:nvPr>
            <p:ph type="subTitle"/>
          </p:nvPr>
        </p:nvSpPr>
        <p:spPr>
          <a:xfrm>
            <a:off x="755280" y="2923920"/>
            <a:ext cx="7777080" cy="338436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                        </a:t>
            </a:r>
            <a:r>
              <a:rPr b="0" lang="ru-RU" sz="2200" spc="-1" strike="noStrike">
                <a:solidFill>
                  <a:srgbClr val="06436b"/>
                </a:solidFill>
                <a:latin typeface="Times New Roman"/>
                <a:ea typeface="Times New Roman"/>
              </a:rPr>
              <a:t>Заведующая КПИЗ, иммунолог МАУ «ДГБ №8»</a:t>
            </a: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Челпанова Мария Александровна</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95280" y="1628640"/>
            <a:ext cx="8291520" cy="4896000"/>
          </a:xfrm>
          <a:prstGeom prst="rect">
            <a:avLst/>
          </a:prstGeom>
          <a:noFill/>
          <a:ln w="0">
            <a:noFill/>
          </a:ln>
        </p:spPr>
        <p:txBody>
          <a:bodyPr anchor="t">
            <a:normAutofit/>
          </a:bodyPr>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Times New Roman"/>
              </a:rPr>
              <a:t>    </a:t>
            </a:r>
            <a:r>
              <a:rPr b="1" lang="ru-RU" sz="1600" spc="-1" strike="noStrike">
                <a:solidFill>
                  <a:srgbClr val="0d0d0d"/>
                </a:solidFill>
                <a:latin typeface="Times New Roman"/>
                <a:ea typeface="Times New Roman"/>
              </a:rPr>
              <a:t>Прививки, сделанные ребенку в детстве, создают основу иммунитета </a:t>
            </a:r>
            <a:r>
              <a:rPr b="0" lang="ru-RU" sz="1600" spc="-1" strike="noStrike">
                <a:solidFill>
                  <a:srgbClr val="0d0d0d"/>
                </a:solidFill>
                <a:latin typeface="Times New Roman"/>
                <a:ea typeface="Times New Roman"/>
              </a:rPr>
              <a:t>– невосприимчивости к инфекции. Все современные вакцины, применяемые в нашей стране, проходят тщательный контроль и соответствуют мировым стандартам. Они не оказывают вредного влияния на организм ребенка.</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Может ли заболеть привитой ребенок?</a:t>
            </a:r>
            <a:r>
              <a:rPr b="0" lang="ru-RU" sz="1600" spc="-1" strike="noStrike">
                <a:solidFill>
                  <a:srgbClr val="0d0d0d"/>
                </a:solidFill>
                <a:latin typeface="Times New Roman"/>
                <a:ea typeface="Times New Roman"/>
              </a:rPr>
              <a:t> Да, может, либо никакая вакцина не дает 100% гарантии на всю жизнь. Однако это происходит редко, а в случае заболевания привитой ребенок переносит заболевание в легкой форме.</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Возможна ли реакция на прививку?</a:t>
            </a:r>
            <a:r>
              <a:rPr b="0" lang="ru-RU" sz="1600" spc="-1" strike="noStrike">
                <a:solidFill>
                  <a:srgbClr val="0d0d0d"/>
                </a:solidFill>
                <a:latin typeface="Times New Roman"/>
                <a:ea typeface="Times New Roman"/>
              </a:rPr>
              <a:t>  Да. Иногда отмечается кратковременное (2-3 дня) повышение температуры тела, нарушение сна, снижение аппетита. Возможна местная реакция в виде красноты, отека в месте инъекции.</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Как подготовить ребенка к прививке?</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доровых детей готовить к прививке не нужно, просто</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избегайте контактов с инфекционными больными.</a:t>
            </a:r>
            <a:endParaRPr b="0" lang="en-US" sz="1600" spc="-1" strike="noStrike">
              <a:solidFill>
                <a:srgbClr val="073e87"/>
              </a:solidFill>
              <a:latin typeface="Candara"/>
            </a:endParaRPr>
          </a:p>
        </p:txBody>
      </p:sp>
      <p:sp>
        <p:nvSpPr>
          <p:cNvPr id="549" name="PlaceHolder 1"/>
          <p:cNvSpPr>
            <a:spLocks noGrp="1"/>
          </p:cNvSpPr>
          <p:nvPr>
            <p:ph type="title"/>
          </p:nvPr>
        </p:nvSpPr>
        <p:spPr>
          <a:xfrm>
            <a:off x="250920" y="404280"/>
            <a:ext cx="864216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39280" y="2060640"/>
            <a:ext cx="7993080" cy="4176720"/>
          </a:xfrm>
          <a:prstGeom prst="rect">
            <a:avLst/>
          </a:prstGeom>
          <a:noFill/>
          <a:ln w="0">
            <a:noFill/>
          </a:ln>
        </p:spPr>
        <p:txBody>
          <a:bodyPr anchor="t">
            <a:normAutofit/>
          </a:bodyPr>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73e87"/>
                </a:solidFill>
                <a:latin typeface="Times New Roman"/>
                <a:ea typeface="Times New Roman"/>
              </a:rPr>
              <a:t>  </a:t>
            </a:r>
            <a:endParaRPr b="0" lang="en-US" sz="17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Только профилактические прививки могут защитить ребенка от таких заболеваний, как полиомиелит, коклюш, дифтерия, столбняк, корь, гепатит В, туберкулез, эпидемический паротит, краснуха. Бытующее мнение, что защита от этих инфекций может быть достигнута иными неспецифическими методами, не имеет никаких оснований. </a:t>
            </a:r>
            <a:endParaRPr b="0" lang="en-US" sz="2000" spc="-1" strike="noStrike">
              <a:solidFill>
                <a:srgbClr val="073e87"/>
              </a:solidFill>
              <a:latin typeface="Candara"/>
            </a:endParaRPr>
          </a:p>
          <a:p>
            <a:pPr marL="272880" indent="-27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По данным Всемирной Организации Здравоохранения (ВОЗ) вакцинация предотвращает ежегодно 180 миллионов случаев заболеваний коклюшем, дифтерией, столбняком и корью, 3,2 миллионов смертельных исходов этих инфекций, 400 тысяч паралитических форм полиомиелита и 2,4 миллионов случаев хронического гепатита В.</a:t>
            </a:r>
            <a:endParaRPr b="0" lang="en-US" sz="20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nSpc>
                <a:spcPct val="6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72880" indent="-27288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
        <p:nvSpPr>
          <p:cNvPr id="5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Важно знать</a:t>
            </a:r>
            <a:endParaRPr b="0" lang="en-US" sz="4400" spc="-1" strike="noStrike">
              <a:solidFill>
                <a:srgbClr val="ffffff"/>
              </a:solidFill>
              <a:latin typeface="Candara"/>
            </a:endParaRPr>
          </a:p>
        </p:txBody>
      </p:sp>
      <p:sp>
        <p:nvSpPr>
          <p:cNvPr id="553" name="Rectangle 4"/>
          <p:cNvSpPr/>
          <p:nvPr/>
        </p:nvSpPr>
        <p:spPr>
          <a:xfrm>
            <a:off x="324000" y="2492280"/>
            <a:ext cx="8424720" cy="329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Иммунизация в рамках Национального  календаря профилактических прививок проводится вакцинами отечественного и зарубежного производства, зарегистрированными и разрешенными к применению в установленном порядке согласно инструкции по их применению.</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Применяемые в рамках Национального календаря профилактических прививок, кроме БЦЖ, можно вводить одновременно (или с интервалом не менее одного месяца) разными шприцами в разные участки тела.</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Отечественные вакцины отвечают всем требованиям ВОЗ, по эффективности не отличаются от аналогичных препаратов ведущих зарубежных фирм и защищают от заболеваний до 95% привитых.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59920"/>
            <a:ext cx="7010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imes New Roman"/>
              <a:ea typeface="Times New Roman"/>
            </a:endParaRPr>
          </a:p>
        </p:txBody>
      </p:sp>
      <p:graphicFrame>
        <p:nvGraphicFramePr>
          <p:cNvPr id="555" name=""/>
          <p:cNvGraphicFramePr/>
          <p:nvPr/>
        </p:nvGraphicFramePr>
        <p:xfrm>
          <a:off x="1676160" y="1981080"/>
          <a:ext cx="7010280" cy="4114800"/>
        </p:xfrm>
        <a:graphic>
          <a:graphicData uri="http://schemas.openxmlformats.org/drawingml/2006/table"/>
        </a:graphic>
      </p:graphicFrame>
      <p:pic>
        <p:nvPicPr>
          <p:cNvPr id="556" name="Picture 1" descr=""/>
          <p:cNvPicPr/>
          <p:nvPr/>
        </p:nvPicPr>
        <p:blipFill>
          <a:blip r:embed="rId1"/>
          <a:stretch/>
        </p:blipFill>
        <p:spPr>
          <a:xfrm>
            <a:off x="108000" y="189000"/>
            <a:ext cx="879300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11280" y="333000"/>
            <a:ext cx="55454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крытие брифинга</a:t>
            </a:r>
            <a:endParaRPr b="0" lang="en-US" sz="4400" spc="-1" strike="noStrike">
              <a:solidFill>
                <a:srgbClr val="1c86c0"/>
              </a:solidFill>
              <a:latin typeface="Microsoft Sans Serif"/>
            </a:endParaRPr>
          </a:p>
        </p:txBody>
      </p:sp>
      <p:sp>
        <p:nvSpPr>
          <p:cNvPr id="511" name=""/>
          <p:cNvSpPr txBox="1"/>
          <p:nvPr/>
        </p:nvSpPr>
        <p:spPr>
          <a:xfrm>
            <a:off x="2155680" y="1412640"/>
            <a:ext cx="6664320" cy="482436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Мишарин Вячеслав Николаевич,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Глава Администрации Чкаловского района города Екатеринбурга</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Соколовская Ирина Ренадовна</a:t>
            </a:r>
            <a:r>
              <a:rPr b="0" lang="ru-RU" sz="3200" spc="-1" strike="noStrike">
                <a:solidFill>
                  <a:srgbClr val="262626"/>
                </a:solidFill>
                <a:latin typeface="Microsoft Sans Serif"/>
              </a:rPr>
              <a:t>,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начальник управления образования Чкаловского район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2050920" y="115920"/>
            <a:ext cx="5185080" cy="662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26920" y="1483920"/>
            <a:ext cx="7955280" cy="5265720"/>
          </a:xfrm>
          <a:prstGeom prst="rect">
            <a:avLst/>
          </a:prstGeom>
          <a:noFill/>
          <a:ln w="0">
            <a:noFill/>
          </a:ln>
        </p:spPr>
        <p:txBody>
          <a:bodyPr anchor="t">
            <a:normAutofit/>
          </a:bodyPr>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туберкулез </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уберкулез -это хроническое инфекционное заболевание, вызываемое микобактерией туберкулеза.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Может поражать любой орган, но преимущественно поражает легкие, вызывая легочный туберкулез.</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туберкулезом</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олько больные легочным туберкулезом (люди и животные) являются источником инфекции. Заболевание передается воздушно – капельным, воздушно – пылевым, контактным и пищевым путем (через продукты больных животных – молоко, мясо, масло и др.).</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Первые признаки туберкулез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Быстрая утомляемость  и появление общей слабости.</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нижение или отсутствие аппетита, потеря вес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овышенная потливость, особенно под утр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убфебрильная температура (37,2-37,5)</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ительный, не поддающийся лечению кашель.</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ация проводится в роддоме на 3-7 день жизни.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вакцинации проводятся в 6-7 лет только при отрицательной пробе Манту.</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проводятся вакциной БЦЖ (БЦЖ-М) и приводят к развитию длительного специфического иммунитета.</a:t>
            </a:r>
            <a:endParaRPr b="0" lang="en-US" sz="1400" spc="-1" strike="noStrike">
              <a:solidFill>
                <a:srgbClr val="073e87"/>
              </a:solidFill>
              <a:latin typeface="Candara"/>
            </a:endParaRPr>
          </a:p>
          <a:p>
            <a:pPr marL="284040" indent="-2840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59" name="PlaceHolder 1"/>
          <p:cNvSpPr>
            <a:spLocks noGrp="1"/>
          </p:cNvSpPr>
          <p:nvPr>
            <p:ph type="title"/>
          </p:nvPr>
        </p:nvSpPr>
        <p:spPr>
          <a:xfrm>
            <a:off x="1690560" y="297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ем опасен туберкулез</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502920" y="1401840"/>
            <a:ext cx="8101080" cy="5122800"/>
          </a:xfrm>
          <a:prstGeom prst="rect">
            <a:avLst/>
          </a:prstGeom>
          <a:noFill/>
          <a:ln w="0">
            <a:noFill/>
          </a:ln>
        </p:spPr>
        <p:txBody>
          <a:bodyPr anchor="t">
            <a:normAutofit/>
          </a:bodyPr>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ирусный гепатит В</a:t>
            </a:r>
            <a:endParaRPr b="0" lang="en-US" sz="1600" spc="-1" strike="noStrike">
              <a:solidFill>
                <a:srgbClr val="073e87"/>
              </a:solidFill>
              <a:latin typeface="Candara"/>
            </a:endParaRPr>
          </a:p>
          <a:p>
            <a:pPr lvl="2"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ный гепатит  – это заболевание, вызывающее избирательное поражение клеток печени, с последующим нарушением ее функций.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 обнаруживается в крови и в других жидкостях организма,  устойчив к кипячению, высушиванию и пр., поэтому им легко заразиться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редко гепатит В протекает бессимптомно, тогда человек становится носителем вируса и представляет опасность для окружающих, не подозревая об этом.</a:t>
            </a:r>
            <a:endParaRPr b="0" lang="en-US" sz="1600" spc="-1" strike="noStrike">
              <a:solidFill>
                <a:srgbClr val="073e87"/>
              </a:solidFill>
              <a:latin typeface="Candara"/>
            </a:endParaRPr>
          </a:p>
          <a:p>
            <a:pPr marL="284040" indent="-284040">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ет произойти заражение  гепатитом В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т человека к человеку, при нарушении целостности кожных покровов и слизистых (порезы, ссадины, микротравмы, поцелуи и т.д.)</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Через предметы, которыми пользовался инфицированный (игрушки, расческа, зубная щетка и др.)</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работает вакцина против гепатита В</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изводится по самой передовой технологии. Вакцина не содержит вируса и не может вызвать заболевание.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ный курс вакцинации состоит из 3-х прививок, которые делаются по схеме:</a:t>
            </a:r>
            <a:endParaRPr b="0" lang="en-US" sz="1600" spc="-1" strike="noStrike">
              <a:solidFill>
                <a:srgbClr val="073e87"/>
              </a:solidFill>
              <a:latin typeface="Candara"/>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d0d0d"/>
                </a:solidFill>
                <a:uFillTx/>
                <a:latin typeface="Times New Roman"/>
                <a:ea typeface="Times New Roman"/>
              </a:rPr>
              <a:t>   </a:t>
            </a:r>
            <a:r>
              <a:rPr b="0" lang="ru-RU" sz="1600" spc="-1" strike="noStrike" u="sng">
                <a:solidFill>
                  <a:srgbClr val="0d0d0d"/>
                </a:solidFill>
                <a:uFillTx/>
                <a:latin typeface="Times New Roman"/>
                <a:ea typeface="Times New Roman"/>
              </a:rPr>
              <a:t>0 ----- 1 мес. ----- 6 мес.</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овременная вакцина против гепатита В – безопасный и надежный препарат.</a:t>
            </a:r>
            <a:r>
              <a:rPr b="1" lang="ru-RU" sz="1600" spc="-1" strike="noStrike">
                <a:solidFill>
                  <a:srgbClr val="0d0d0d"/>
                </a:solidFill>
                <a:latin typeface="Times New Roman"/>
                <a:ea typeface="Times New Roman"/>
              </a:rPr>
              <a:t> </a:t>
            </a:r>
            <a:endParaRPr b="0" lang="en-US" sz="16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1" name="PlaceHolder 1"/>
          <p:cNvSpPr>
            <a:spLocks noGrp="1"/>
          </p:cNvSpPr>
          <p:nvPr>
            <p:ph type="title"/>
          </p:nvPr>
        </p:nvSpPr>
        <p:spPr>
          <a:xfrm>
            <a:off x="457200" y="338040"/>
            <a:ext cx="8229600" cy="85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гепатита В</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26920" y="1376280"/>
            <a:ext cx="7955280" cy="5184720"/>
          </a:xfrm>
          <a:prstGeom prst="rect">
            <a:avLst/>
          </a:prstGeom>
          <a:noFill/>
          <a:ln w="0">
            <a:noFill/>
          </a:ln>
        </p:spPr>
        <p:txBody>
          <a:bodyPr anchor="t">
            <a:normAutofit/>
          </a:bodyPr>
          <a:p>
            <a:pPr lvl="1" marL="284040" indent="-28404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клюш</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Это вирусная инфекция, поражающая органы дыхания.</a:t>
            </a:r>
            <a:endParaRPr b="0" lang="en-US" sz="13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Вирус передается воздушно-капельным путем от больного человека</a:t>
            </a:r>
            <a:endParaRPr b="0" lang="en-US" sz="13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ирус неустойчив в окружающей среде, поэтому заражение через третьи лица и вещи маловероятн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сприимчивость к коклюшу очень велика. Наибольшее число заболеваний приходится на возраст от 3 до 6 лет.</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коклюш</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новной симптом болезни -  приступообразный, спазматический кашель.   Приступ состоит из серии коротких кашлевых толчков с последующим свистящим вдохом (реприз), вследствие спастического сужения голосовой щели. В течение приступа кашля может быть несколько репризов.  Приступы кашля обычно заканчиваются отхождением малого количества вязкой прозрачной мокроты. При тяжелых формах коклюша часто приступ заканчивается рвотой. Приступы кашля носят преимущественно ночной характер. Как правило, самочувствие больного не страдает, аппетит сохранен.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работает вакцина против коклюш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Наиболее часто используемый для профилактики коклюша препарат – АКДС – коклюшно-дифтерийно-столбнячная адсорбированная вакцина (Росс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урс вакцинации - 3 прививки. Первая ревакцинация проводится в возрасте 18 месяцев, вторая- в 6 лет.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Адекватная выработка специфического иммунитета возможна после введения 3 доз вакцины.</a:t>
            </a:r>
            <a:endParaRPr b="0" lang="en-US" sz="1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Как защититься от коклюша</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91640" y="1270080"/>
            <a:ext cx="8099640" cy="5254560"/>
          </a:xfrm>
          <a:prstGeom prst="rect">
            <a:avLst/>
          </a:prstGeom>
          <a:noFill/>
          <a:ln w="0">
            <a:noFill/>
          </a:ln>
        </p:spPr>
        <p:txBody>
          <a:bodyPr anchor="t">
            <a:normAutofit/>
          </a:bodyPr>
          <a:p>
            <a:pPr lvl="1" marL="271440" indent="-271440" algn="just">
              <a:lnSpc>
                <a:spcPct val="100000"/>
              </a:lnSpc>
              <a:spcBef>
                <a:spcPts val="349"/>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дифтерия</a:t>
            </a:r>
            <a:endParaRPr b="0" lang="en-US" sz="1400" spc="-1" strike="noStrike">
              <a:solidFill>
                <a:srgbClr val="073e87"/>
              </a:solidFill>
              <a:latin typeface="Candara"/>
            </a:endParaRPr>
          </a:p>
          <a:p>
            <a:pPr lvl="1"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ифтерия – острое инфекционное заболевание. Основным источником заражения дифтерией является больной человек. Механизм передачи инфекции  воздушно – капельный.</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достаточно стойкий, поэтому возможна передача инфекции через игрушки, белье, предметы ухода, посуду и третьих лиц. </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ходными воротами  инфекции при дифтерии служат  слизистые оболочки зева, носа и верхних дыхательных путей, поэтому  особенно восприимчивы  к дифтерии дети, страдающие хроническим тонзиллитом, часто болеющие ангиной, простудными заболеваниям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ки против дифтери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эффективны только тогда, когда они проведены полностью и при правильном соблюдении интервалов между ними. </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комендуемые сроки прививок:</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вакцинацию проводят в 3-х месячном   возрасте  трехкратно с интервалом в 4-6 недель между введениям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ревакцинацию проводят однократно через 1   год после законченной вакцинаци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вторую ревакцинацию проводят в 7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третью ревакцинацию проводят  в 14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оследующие ревакцинации проводят каждые 10 лет</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дифтерии</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539640" y="1375920"/>
            <a:ext cx="8159760" cy="52657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d0d0d"/>
                </a:solidFill>
                <a:latin typeface="Times New Roman"/>
                <a:ea typeface="Times New Roman"/>
              </a:rPr>
              <a:t>Что такое столбняк</a:t>
            </a:r>
            <a:endParaRPr b="0" lang="en-US" sz="15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d0d0d"/>
                </a:solidFill>
                <a:latin typeface="Times New Roman"/>
                <a:ea typeface="Times New Roman"/>
              </a:rPr>
              <a:t>Столбняк – это острое инфекционное заболевание, характеризующееся поражением спинного и головного мозга.</a:t>
            </a:r>
            <a:endParaRPr b="0" lang="en-US" sz="15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 всех возрастных группах к столбняку сохраняется очень высокая восприимчивость.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мертность от столбняка даже в специализированных лечебных учреждениях достигает 35% и более.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столбняко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Источником инфекции служат человек и животные, в кишечнике которых возбудитель находится в  неактивной форм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болезни выделяется с испражнениями  в почву, образуя споры, длительно сохраняющие жизнеспособност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ражение столбняком происходит при попадании земли, зараженной возбудителем, в рану.</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столбняка характерны приступы судорог во всех группах мышц, возникающие от малейших внешних раздражителей (яркий свет, звук и др.).</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водятся всем детям трехкратно, начиная с 3-х месячного возраста. Первая ревакцинация  проводится  в 18 месяцев, вторая ревакцинация – в   7 лет, третья ревакцинация  в 14  лет.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овременная вакцина высокоэффективна и не оказывает вредного влияния на организм ребенка.</a:t>
            </a:r>
            <a:endParaRPr b="0" lang="en-US" sz="1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Что нужно знать о столбняке</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539280" y="1916280"/>
            <a:ext cx="8147160" cy="4752720"/>
          </a:xfrm>
          <a:prstGeom prst="rect">
            <a:avLst/>
          </a:prstGeom>
          <a:noFill/>
          <a:ln w="0">
            <a:noFill/>
          </a:ln>
        </p:spPr>
        <p:txBody>
          <a:bodyPr anchor="t">
            <a:normAutofit/>
          </a:bodyPr>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полиомиелит </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 – это острая вирусная инфекция, которая передается фекально – оральным и воздушно – капельными путями. Полиомиелитом болеют дети и взрослые, но чаще дети до 5 лет, если им вовремя не сделаны прививки против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Заболевание начинается с повышения температуры, недомогания, потери аппетита, воспаления верхних дыхательных путей, болей в животе, рвоты, с  последующим развитием параличей мышц ног, рук, туловища, что нередко приводит к инвалидности.</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сделать для  предупреждения заболевания</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обходимо сделать  прививки от полиомиелита в соответствии с возрастом, согласно Национального календаря прививок.</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Уже после первой вакцинации у 90-95% привитых формируется длительный иммунитет к вирусу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ная вакцина сочетается с другими вакцинами.</a:t>
            </a:r>
            <a:endParaRPr b="0" lang="en-US" sz="1600" spc="-1" strike="noStrike">
              <a:solidFill>
                <a:srgbClr val="073e87"/>
              </a:solidFill>
              <a:latin typeface="Candara"/>
            </a:endParaRPr>
          </a:p>
        </p:txBody>
      </p:sp>
      <p:sp>
        <p:nvSpPr>
          <p:cNvPr id="569" name="PlaceHolder 1"/>
          <p:cNvSpPr>
            <a:spLocks noGrp="1"/>
          </p:cNvSpPr>
          <p:nvPr>
            <p:ph type="title"/>
          </p:nvPr>
        </p:nvSpPr>
        <p:spPr>
          <a:xfrm>
            <a:off x="826560" y="259920"/>
            <a:ext cx="79930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кцинация против полиомиел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39280" y="1350720"/>
            <a:ext cx="8280360" cy="55069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рь</a:t>
            </a:r>
            <a:endParaRPr b="0" lang="en-US" sz="14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это вирусная инфекция, поражающая органы дыхания. Вирус передается воздушно-капельным путем от больного человека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самая  «заразная»  из детских инфекций. В отсутствии вакцинации, ею заболевают  практически все дети, имевшие даже кратковременный контакт с больным. После болезни развивается стойкий пожизненный иммунитет.</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кори характерны ярко выраженные катаральные явления, слезотечение, светобоязнь, повышение температуры. Одновременно с повышением температуры появляется коревая сыпь, сначала на лице и шее, на 2-й день сыпь распространяется на туловище и верхние конечности, на 3-й день – на всю кожу. С 4 дня элементы сыпи начинают «гаснуть» в том же порядке, в каком они высыпали, оставляя после себя пигментацию, которая держится 1 – 2 недели.</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кор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ложнениями кори являются тяжелые пневмонии, воспаление среднего уха, энцефалит, которые плохо поддаются лечению.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сделать для предупреждения заболевания</a:t>
            </a: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тив кори делается дважды: в 1 год и в 6 лет, что обеспечивает защиту более 95% привитых.</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ы против кори, применяемые в нашей стране, соответствуют мировым стандартам и не оказывают вредного влияния на организ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дновременно с коревой вакциной допускается введение вакцины против паротита и краснухи.</a:t>
            </a:r>
            <a:endParaRPr b="0" lang="en-US" sz="1400" spc="-1" strike="noStrike">
              <a:solidFill>
                <a:srgbClr val="073e87"/>
              </a:solidFill>
              <a:latin typeface="Candara"/>
            </a:endParaRPr>
          </a:p>
        </p:txBody>
      </p:sp>
      <p:sp>
        <p:nvSpPr>
          <p:cNvPr id="571" name="PlaceHolder 1"/>
          <p:cNvSpPr>
            <a:spLocks noGrp="1"/>
          </p:cNvSpPr>
          <p:nvPr>
            <p:ph type="title"/>
          </p:nvPr>
        </p:nvSpPr>
        <p:spPr>
          <a:xfrm>
            <a:off x="468360" y="333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Чем опасна корь</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2828240" y="6506640"/>
            <a:ext cx="1498680" cy="3970440"/>
          </a:xfrm>
          <a:prstGeom prst="rect">
            <a:avLst/>
          </a:prstGeom>
          <a:noFill/>
          <a:ln w="9360">
            <a:solidFill>
              <a:srgbClr val="000000"/>
            </a:solidFill>
            <a:miter/>
          </a:ln>
        </p:spPr>
        <p:txBody>
          <a:bodyPr anchor="t">
            <a:normAutofit/>
          </a:bodyPr>
          <a:p>
            <a:pPr marL="272880" indent="-2728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1"/>
          <p:cNvSpPr>
            <a:spLocks noGrp="1"/>
          </p:cNvSpPr>
          <p:nvPr>
            <p:ph type="title"/>
          </p:nvPr>
        </p:nvSpPr>
        <p:spPr>
          <a:xfrm>
            <a:off x="1001520" y="404640"/>
            <a:ext cx="70102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краснухи</a:t>
            </a:r>
            <a:endParaRPr b="0" lang="en-US" sz="3200" spc="-1" strike="noStrike">
              <a:solidFill>
                <a:srgbClr val="ffffff"/>
              </a:solidFill>
              <a:latin typeface="Candara"/>
            </a:endParaRPr>
          </a:p>
        </p:txBody>
      </p:sp>
      <p:sp>
        <p:nvSpPr>
          <p:cNvPr id="574" name="Rectangle 4"/>
          <p:cNvSpPr/>
          <p:nvPr/>
        </p:nvSpPr>
        <p:spPr>
          <a:xfrm>
            <a:off x="252360" y="1322280"/>
            <a:ext cx="8508960" cy="4961160"/>
          </a:xfrm>
          <a:prstGeom prst="rect">
            <a:avLst/>
          </a:prstGeom>
          <a:noFill/>
          <a:ln w="0">
            <a:noFill/>
          </a:ln>
        </p:spPr>
        <p:style>
          <a:lnRef idx="0"/>
          <a:fillRef idx="0"/>
          <a:effectRef idx="0"/>
          <a:fontRef idx="minor"/>
        </p:style>
        <p:txBody>
          <a:bodyPr lIns="90000" rIns="90000" tIns="46800" bIns="46800" anchor="t">
            <a:spAutoFit/>
          </a:bodyPr>
          <a:p>
            <a:pPr lvl="2"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краснуха</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lvl="2"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Краснуха – это острое вирусное заболевание Источником заражения является больной, который выделяет вирус при чихании, кашле, с капельками слюны. Перенесенная краснуха сопровождается развитием пожизненного иммунитета.</a:t>
            </a:r>
            <a:endParaRPr b="0" lang="en-US" sz="1600" spc="-1" strike="noStrike">
              <a:solidFill>
                <a:srgbClr val="4d4d4d"/>
              </a:solidFill>
              <a:latin typeface="Arial"/>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проявляется заболевание</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ля краснухи характерно небольшое повышение температуры, легкое недомогание, катаральные явления в виде насморка, кашля, конъюнктивита (покраснение глаз). Эти симптомы развиваются одновременно или за 1-2 дня до появления небольшой сыпи розового цвета на разгибательных поверхностях рук и ног, вокруг суставов, на ягодицах и спине. Через 2-3 суток сыпь бесследно исчезает. Характерным симптомом краснухи является увеличение затылочных и заднешейных лимфатических узлов. </a:t>
            </a: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знать для проведения прививок</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рививки от краснухи делаются детям дважды: в возрасте 1 года и в 6 лет.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Последствия краснухи</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собую опасность представляет заболевание краснухой беременных, особенно в первой трети. В этом случае высока вероятность (до 75%) рождения ребенка с множественными пороками развития различных органов и систем.</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68000" y="1988640"/>
            <a:ext cx="8218440" cy="4464360"/>
          </a:xfrm>
          <a:prstGeom prst="rect">
            <a:avLst/>
          </a:prstGeom>
          <a:noFill/>
          <a:ln w="0">
            <a:noFill/>
          </a:ln>
        </p:spPr>
        <p:txBody>
          <a:bodyPr anchor="t">
            <a:normAutofit fontScale="99000"/>
          </a:bodyPr>
          <a:p>
            <a:pPr marL="270000" indent="-270000">
              <a:lnSpc>
                <a:spcPct val="6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73e87"/>
              </a:solidFill>
              <a:latin typeface="Candara"/>
            </a:endParaRPr>
          </a:p>
          <a:p>
            <a:pPr marL="270000" indent="-27000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73e87"/>
              </a:solidFill>
              <a:latin typeface="Candara"/>
            </a:endParaRPr>
          </a:p>
          <a:p>
            <a:pPr marL="270000" indent="-270000" algn="just">
              <a:lnSpc>
                <a:spcPct val="9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эпидемический паротит (свинка)</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 (свинка) – острая вирусная инфекция. Источником заражения является больной человек, выделяющий вирус во внешнюю среду при чихании, кашле, с капельками слю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развивается остро через 2-4 недели после заражения и проявляется повышением температуры, недомоганием, слабостью, одно или двухсторонним  увеличением слюнных желез, чаще всего околоушны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ереболевшие свинкой приобретают стойкий  иммунитет.</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эта инфекция</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менингита (встречается у каждого десятого заболевшего),</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панкреатита (воспаления поджелудочной железы), которое имеет место у 4-5% заболевавши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ный орхит (воспаление яичек) является причиной развития  ¼  всех случаев мужского бесплодия.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эпидемическим паротитом в первые 3 месяца беременности приводит к выкидышу у каждой четвертой женщи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ок</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рививки против эпидемического паротита делаются 2-х кратно: в 1 год и в 6 лет. </a:t>
            </a:r>
            <a:endParaRPr b="0" lang="en-US" sz="1400" spc="-1" strike="noStrike">
              <a:solidFill>
                <a:srgbClr val="073e87"/>
              </a:solidFill>
              <a:latin typeface="Candara"/>
            </a:endParaRPr>
          </a:p>
        </p:txBody>
      </p:sp>
      <p:sp>
        <p:nvSpPr>
          <p:cNvPr id="576" name="PlaceHolder 1"/>
          <p:cNvSpPr>
            <a:spLocks noGrp="1"/>
          </p:cNvSpPr>
          <p:nvPr>
            <p:ph type="title"/>
          </p:nvPr>
        </p:nvSpPr>
        <p:spPr>
          <a:xfrm>
            <a:off x="539280" y="404280"/>
            <a:ext cx="828036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эпидемического парот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79640" y="62028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Нормативное регулирование вопросов вакцинопрофилактики. Отказ от прививок = отстранение?</a:t>
            </a:r>
            <a:endParaRPr b="0" lang="en-US" sz="3200" spc="-1" strike="noStrike">
              <a:solidFill>
                <a:srgbClr val="1c86c0"/>
              </a:solidFill>
              <a:latin typeface="Microsoft Sans Serif"/>
            </a:endParaRPr>
          </a:p>
        </p:txBody>
      </p:sp>
      <p:sp>
        <p:nvSpPr>
          <p:cNvPr id="513" name=""/>
          <p:cNvSpPr txBox="1"/>
          <p:nvPr/>
        </p:nvSpPr>
        <p:spPr>
          <a:xfrm>
            <a:off x="2124000" y="2023920"/>
            <a:ext cx="6664320" cy="4826160"/>
          </a:xfrm>
          <a:prstGeom prst="rect">
            <a:avLst/>
          </a:prstGeom>
          <a:noFill/>
          <a:ln w="0">
            <a:noFill/>
          </a:ln>
        </p:spPr>
        <p:txBody>
          <a:bodyPr anchor="t">
            <a:normAutofit/>
          </a:bodyPr>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Потапкина Елена Павловна,</a:t>
            </a:r>
            <a:r>
              <a:rPr b="0" lang="ru-RU" sz="2000" spc="-1" strike="noStrike">
                <a:solidFill>
                  <a:srgbClr val="262626"/>
                </a:solidFill>
                <a:latin typeface="Microsoft Sans Serif"/>
              </a:rPr>
              <a:t> начальник ТО Управления Роспотребнадзора по Свердловской области в Ленинском, Верх-Исетском, Октябрьском и Кировском районах города Екатеринбурга</a:t>
            </a:r>
            <a:endParaRPr b="0" lang="en-US" sz="2000" spc="-1" strike="noStrike">
              <a:solidFill>
                <a:srgbClr val="4d4d4d"/>
              </a:solidFill>
              <a:latin typeface="Microsoft Sans Serif"/>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Эккарт Алла Олеговна, </a:t>
            </a:r>
            <a:r>
              <a:rPr b="0" lang="ru-RU" sz="2000" spc="-1" strike="noStrike">
                <a:solidFill>
                  <a:srgbClr val="262626"/>
                </a:solidFill>
                <a:latin typeface="Microsoft Sans Serif"/>
              </a:rPr>
              <a:t>заместитель Главного государственного санитарного врача в Чкаловском районе города Екатеринбурга, в городе Полевской и в Сысертском районе, заместителю начальника Территориального отдела Управления Роспотребнадзора по Свердловской области в Чкаловском районе города Екатеринбурга, в городе Полевской и в Сысертском районе</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539640" y="1915920"/>
            <a:ext cx="8064720" cy="4033800"/>
          </a:xfrm>
          <a:prstGeom prst="rect">
            <a:avLst/>
          </a:prstGeom>
          <a:noFill/>
          <a:ln w="0">
            <a:noFill/>
          </a:ln>
        </p:spPr>
        <p:txBody>
          <a:bodyPr anchor="t">
            <a:normAutofit fontScale="90000"/>
          </a:bodyPr>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грипп </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Грипп - это острое вирусное  заболевание. Восприимчивость к гриппу очень высока и по существу является всеобщей. Для заражения достаточно самого непродолжительного общения с больным.</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но защити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ужно сделать прививку современной эффективной вакциной. Это позволит избежать гриппа и продолжить стабильно работать или учиться.</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проводится однократно детям с 3-х лет, детям с 6 мес. До 3 лет- двукратно.</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акцина  против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Это эффективное средство предупреждения гриппа. Вакцина защищает одновременно от трех вирусов гриппа и ежегодно изменяется в соответствии с мутацией гриппа.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содержит безопасные части вируса гриппа.  Попав в организм, они «обучают»  его защища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тив гриппа не может  вызывать</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аболевание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ы, произведенные в России, не менее эффективны зарубежных аналогов. </a:t>
            </a:r>
            <a:endParaRPr b="0" lang="en-US" sz="1600" spc="-1" strike="noStrike">
              <a:solidFill>
                <a:srgbClr val="073e87"/>
              </a:solidFill>
              <a:latin typeface="Candara"/>
            </a:endParaRPr>
          </a:p>
          <a:p>
            <a:pPr marL="25560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должна проводиться ежегодно!!!</a:t>
            </a:r>
            <a:endParaRPr b="0" lang="en-US" sz="1600" spc="-1" strike="noStrike">
              <a:solidFill>
                <a:srgbClr val="073e87"/>
              </a:solidFill>
              <a:latin typeface="Candara"/>
            </a:endParaRPr>
          </a:p>
        </p:txBody>
      </p:sp>
      <p:sp>
        <p:nvSpPr>
          <p:cNvPr id="578" name="PlaceHolder 1"/>
          <p:cNvSpPr>
            <a:spLocks noGrp="1"/>
          </p:cNvSpPr>
          <p:nvPr>
            <p:ph type="title"/>
          </p:nvPr>
        </p:nvSpPr>
        <p:spPr>
          <a:xfrm>
            <a:off x="1690560" y="135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жное о гриппе</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6840" y="1412640"/>
            <a:ext cx="8280360" cy="5040360"/>
          </a:xfrm>
          <a:prstGeom prst="rect">
            <a:avLst/>
          </a:prstGeom>
          <a:noFill/>
          <a:ln w="0">
            <a:noFill/>
          </a:ln>
        </p:spPr>
        <p:txBody>
          <a:bodyPr anchor="t">
            <a:normAutofit fontScale="98000"/>
          </a:bodyPr>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Туберкулинодиагностика </a:t>
            </a:r>
            <a:r>
              <a:rPr b="0" lang="ru-RU" sz="1600" spc="-1" strike="noStrike">
                <a:solidFill>
                  <a:srgbClr val="0d0d0d"/>
                </a:solidFill>
                <a:latin typeface="Times New Roman"/>
                <a:ea typeface="Times New Roman"/>
              </a:rPr>
              <a:t>– это диагностическое исследование, с помощью которого выявляют людей (детей), имеющих риск развития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ест проводят для выявления чувствительности (специфической сенсибилизации) к микобактериям туберкулеза, возникающей либо после вакцинации БЦЖ, либо при инфицировании бактериями туберкулеза. С помощью пробы Манту определяется наличие поствакцинального иммунитета или наличие инфицирования микобактериями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используется для проведения туберкулинодиагностики?</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с использованием туберкулина – очищенного препарата, изготовленного из смеси убитых фильтратов культуры микобактерий человеческого и бычьего типов.</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ому и как часто проводится туберкулинодиагностик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всем детям с 1 года и до достижения возраста 18 лет.</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 целью диагностики привитым БЦЖ проба Манту/ Диаскинтест делается 1 раз в год, желательно в одно и то же время, независимо от результатов предыдущей пробы. </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етям, не привитым вакциной БЦЖ или имеющим медицинские противопоказания к вакцинации, туберкулинодиагностика проводится 2 раза в год.</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Что такое туберкулинодиагностика и для чего она проводится?</a:t>
            </a:r>
            <a:br>
              <a:rPr sz="2200"/>
            </a:b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539280" y="1949040"/>
            <a:ext cx="8209080" cy="4575240"/>
          </a:xfrm>
          <a:prstGeom prst="rect">
            <a:avLst/>
          </a:prstGeom>
          <a:noFill/>
          <a:ln w="0">
            <a:noFill/>
          </a:ln>
        </p:spPr>
        <p:txBody>
          <a:bodyPr anchor="t">
            <a:normAutofit/>
          </a:bodyPr>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Более подробную информацию о профилактических прививках Вы можете получить на официальном сайте МАУ «ДГБ №8» в разделе «Отделение профилактики», где мы подготовили для Вас статьи по вакцинопрофилактике и другие интересные материалы</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dgb8.ru</a:t>
            </a:r>
            <a:endParaRPr b="0" lang="en-US" sz="24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Также на сайте есть возможность задать вопрос специалисту, в том числе врачу-иммунологу в разделе «Задать вопрос специалисту»</a:t>
            </a:r>
            <a:endParaRPr b="0" lang="en-US" sz="18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Каждую вторую пятницу месяца в онлайн- режиме проходит консультация врача-иммунолога. Вопросы можно задать на официальном сайте, а также в социальной сети Инстаграм</a:t>
            </a:r>
            <a:r>
              <a:rPr b="0" lang="en-US" sz="1800" spc="-1" strike="noStrike">
                <a:solidFill>
                  <a:srgbClr val="073e87"/>
                </a:solidFill>
                <a:latin typeface="Times New Roman"/>
                <a:ea typeface="Times New Roman"/>
              </a:rPr>
              <a:t>   </a:t>
            </a:r>
            <a:r>
              <a:rPr b="0" lang="ru-RU" sz="1800" spc="-1" strike="noStrike">
                <a:solidFill>
                  <a:srgbClr val="073e87"/>
                </a:solidFill>
                <a:latin typeface="Times New Roman"/>
                <a:ea typeface="Times New Roman"/>
              </a:rPr>
              <a:t> </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maudgb8</a:t>
            </a:r>
            <a:endParaRPr b="0" lang="en-US" sz="2400" spc="-1" strike="noStrike">
              <a:solidFill>
                <a:srgbClr val="073e87"/>
              </a:solidFill>
              <a:latin typeface="Candara"/>
            </a:endParaRPr>
          </a:p>
        </p:txBody>
      </p:sp>
      <p:sp>
        <p:nvSpPr>
          <p:cNvPr id="5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полнительная информация</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Объект 3" descr=""/>
          <p:cNvPicPr/>
          <p:nvPr/>
        </p:nvPicPr>
        <p:blipFill>
          <a:blip r:embed="rId1"/>
          <a:stretch/>
        </p:blipFill>
        <p:spPr>
          <a:xfrm>
            <a:off x="684360" y="1268280"/>
            <a:ext cx="7704000" cy="5141880"/>
          </a:xfrm>
          <a:prstGeom prst="rect">
            <a:avLst/>
          </a:prstGeom>
          <a:ln w="0">
            <a:noFill/>
          </a:ln>
        </p:spPr>
      </p:pic>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b87d6"/>
                </a:solidFill>
                <a:latin typeface="Candara"/>
              </a:rPr>
              <a:t>Мы желаем здоровья Вам и Вашим детям!</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веты на вопросы</a:t>
            </a:r>
            <a:endParaRPr b="0" lang="en-US" sz="4400" spc="-1" strike="noStrike">
              <a:solidFill>
                <a:srgbClr val="1c86c0"/>
              </a:solidFill>
              <a:latin typeface="Microsoft Sans Serif"/>
            </a:endParaRPr>
          </a:p>
        </p:txBody>
      </p:sp>
      <p:pic>
        <p:nvPicPr>
          <p:cNvPr id="586" name="Рисунок 4" descr=""/>
          <p:cNvPicPr/>
          <p:nvPr/>
        </p:nvPicPr>
        <p:blipFill>
          <a:blip r:embed="rId1"/>
          <a:stretch/>
        </p:blipFill>
        <p:spPr>
          <a:xfrm>
            <a:off x="2556000" y="1916280"/>
            <a:ext cx="5668920" cy="400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Фидбэк «Ваши предложения по совершенствованию вакцинопрофилактики детей».</a:t>
            </a:r>
            <a:endParaRPr b="0" lang="en-US" sz="3200" spc="-1" strike="noStrike">
              <a:solidFill>
                <a:srgbClr val="1c86c0"/>
              </a:solidFill>
              <a:latin typeface="Microsoft Sans Serif"/>
            </a:endParaRPr>
          </a:p>
        </p:txBody>
      </p:sp>
      <p:sp>
        <p:nvSpPr>
          <p:cNvPr id="588" name=""/>
          <p:cNvSpPr txBox="1"/>
          <p:nvPr/>
        </p:nvSpPr>
        <p:spPr>
          <a:xfrm>
            <a:off x="1979280" y="5373360"/>
            <a:ext cx="6808680" cy="2484360"/>
          </a:xfrm>
          <a:prstGeom prst="rect">
            <a:avLst/>
          </a:prstGeom>
          <a:noFill/>
          <a:ln w="0">
            <a:noFill/>
          </a:ln>
        </p:spPr>
        <p:txBody>
          <a:bodyPr anchor="t">
            <a:normAutofit/>
          </a:bodyPr>
          <a:p>
            <a:pPr marL="343080" indent="-343080" algn="ctr">
              <a:spcBef>
                <a:spcPts val="601"/>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d"/>
                </a:solidFill>
                <a:latin typeface="Microsoft Sans Serif"/>
              </a:rPr>
              <a:t>Гумбатова Инна Владимировна, </a:t>
            </a:r>
            <a:endParaRPr b="0" lang="en-US" sz="2400" spc="-1" strike="noStrike">
              <a:solidFill>
                <a:srgbClr val="4d4d4d"/>
              </a:solidFill>
              <a:latin typeface="Microsoft Sans Serif"/>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Microsoft Sans Serif"/>
              </a:rPr>
              <a:t>заместитель начальника управления образования Чкаловского района</a:t>
            </a:r>
            <a:endParaRPr b="0" lang="en-US" sz="2400" spc="-1" strike="noStrike">
              <a:solidFill>
                <a:srgbClr val="4d4d4d"/>
              </a:solidFill>
              <a:latin typeface="Microsoft Sans Serif"/>
            </a:endParaRPr>
          </a:p>
        </p:txBody>
      </p:sp>
      <p:pic>
        <p:nvPicPr>
          <p:cNvPr id="589" name="Рисунок 4" descr="http://qrcoder.ru/code/?https%3A%2F%2Fdocs.google.com%2Fforms%2Fd%2F1BsnRMnLvRD8cIt9-b_LFzUGV73BkiSkdfILIp0RgBpY%2Fedit&amp;4&amp;0"/>
          <p:cNvPicPr/>
          <p:nvPr/>
        </p:nvPicPr>
        <p:blipFill>
          <a:blip r:embed="rId1"/>
          <a:stretch/>
        </p:blipFill>
        <p:spPr>
          <a:xfrm>
            <a:off x="3714840" y="2571840"/>
            <a:ext cx="1714320" cy="1714320"/>
          </a:xfrm>
          <a:prstGeom prst="rect">
            <a:avLst/>
          </a:prstGeom>
          <a:ln w="0">
            <a:noFill/>
          </a:ln>
        </p:spPr>
      </p:pic>
      <p:pic>
        <p:nvPicPr>
          <p:cNvPr id="590" name="Рисунок 5" descr=""/>
          <p:cNvPicPr/>
          <p:nvPr/>
        </p:nvPicPr>
        <p:blipFill>
          <a:blip r:embed="rId2"/>
          <a:stretch/>
        </p:blipFill>
        <p:spPr>
          <a:xfrm>
            <a:off x="3714840" y="2060640"/>
            <a:ext cx="2863800" cy="28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80880" y="380880"/>
            <a:ext cx="8001000" cy="619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ое регулировании организации и проведения вакцинопрофилактики </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екционных заболеваний</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меститель начальник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Южного Екатеринбургского отдел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вления Роспотребнадзор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вердловской области</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карт Алла Олеговна</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Рисунок 1" descr=""/>
          <p:cNvPicPr/>
          <p:nvPr/>
        </p:nvPicPr>
        <p:blipFill>
          <a:blip r:embed="rId1"/>
          <a:stretch/>
        </p:blipFill>
        <p:spPr>
          <a:xfrm>
            <a:off x="6972480" y="4800600"/>
            <a:ext cx="2133360" cy="2057400"/>
          </a:xfrm>
          <a:prstGeom prst="rect">
            <a:avLst/>
          </a:prstGeom>
          <a:ln w="0">
            <a:noFill/>
          </a:ln>
        </p:spPr>
      </p:pic>
      <p:sp>
        <p:nvSpPr>
          <p:cNvPr id="516" name="Прямоугольник 3"/>
          <p:cNvSpPr/>
          <p:nvPr/>
        </p:nvSpPr>
        <p:spPr>
          <a:xfrm>
            <a:off x="1371600" y="820800"/>
            <a:ext cx="685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52 от 30.03.1999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 САНИТАРНО-ЭПИДЕМИОЛОГИЧЕСКОМ БЛАГОПОЛУЧИИ НАСЕЛЕНИЯ» </a:t>
            </a:r>
            <a:endParaRPr b="0" lang="en-US" sz="2000" spc="-1" strike="noStrike">
              <a:solidFill>
                <a:srgbClr val="4d4d4d"/>
              </a:solidFill>
              <a:latin typeface="Arial"/>
            </a:endParaRPr>
          </a:p>
        </p:txBody>
      </p:sp>
      <p:sp>
        <p:nvSpPr>
          <p:cNvPr id="517" name="Прямоугольник 4"/>
          <p:cNvSpPr/>
          <p:nvPr/>
        </p:nvSpPr>
        <p:spPr>
          <a:xfrm>
            <a:off x="1371600" y="2362320"/>
            <a:ext cx="6400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157 от 17.09.1998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 ИММУНОПРОФИЛАКТИКЕ ИНФЕКЦИОННЫХ БОЛЕЗНЕЙ» </a:t>
            </a:r>
            <a:endParaRPr b="0" lang="en-US" sz="2000" spc="-1" strike="noStrike">
              <a:solidFill>
                <a:srgbClr val="4d4d4d"/>
              </a:solidFill>
              <a:latin typeface="Arial"/>
            </a:endParaRPr>
          </a:p>
        </p:txBody>
      </p:sp>
      <p:pic>
        <p:nvPicPr>
          <p:cNvPr id="518" name="Рисунок 5" descr=""/>
          <p:cNvPicPr/>
          <p:nvPr/>
        </p:nvPicPr>
        <p:blipFill>
          <a:blip r:embed="rId2"/>
          <a:stretch/>
        </p:blipFill>
        <p:spPr>
          <a:xfrm>
            <a:off x="0" y="3591000"/>
            <a:ext cx="2362320" cy="38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Прямоугольник 1"/>
          <p:cNvSpPr/>
          <p:nvPr/>
        </p:nvSpPr>
        <p:spPr>
          <a:xfrm>
            <a:off x="2209680" y="9144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СП 3.1.2952-11 Профилактика кори, краснухи и эпидемического паротита.</a:t>
            </a:r>
            <a:endParaRPr b="0" lang="en-US" sz="1800" spc="-1" strike="noStrike">
              <a:solidFill>
                <a:srgbClr val="4d4d4d"/>
              </a:solidFill>
              <a:latin typeface="Arial"/>
            </a:endParaRPr>
          </a:p>
        </p:txBody>
      </p:sp>
      <p:sp>
        <p:nvSpPr>
          <p:cNvPr id="520" name="Прямоугольник 7"/>
          <p:cNvSpPr/>
          <p:nvPr/>
        </p:nvSpPr>
        <p:spPr>
          <a:xfrm>
            <a:off x="2225880" y="2309760"/>
            <a:ext cx="438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09-13 Профилактика дифтерии.</a:t>
            </a:r>
            <a:endParaRPr b="0" lang="en-US" sz="1800" spc="-1" strike="noStrike">
              <a:solidFill>
                <a:srgbClr val="4d4d4d"/>
              </a:solidFill>
              <a:latin typeface="Arial"/>
            </a:endParaRPr>
          </a:p>
        </p:txBody>
      </p:sp>
      <p:sp>
        <p:nvSpPr>
          <p:cNvPr id="521" name="Прямоугольник 9"/>
          <p:cNvSpPr/>
          <p:nvPr/>
        </p:nvSpPr>
        <p:spPr>
          <a:xfrm>
            <a:off x="2368800" y="2951280"/>
            <a:ext cx="433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62-14 Профилактика коклюша.</a:t>
            </a:r>
            <a:endParaRPr b="0" lang="en-US" sz="1800" spc="-1" strike="noStrike">
              <a:solidFill>
                <a:srgbClr val="4d4d4d"/>
              </a:solidFill>
              <a:latin typeface="Arial"/>
            </a:endParaRPr>
          </a:p>
        </p:txBody>
      </p:sp>
      <p:sp>
        <p:nvSpPr>
          <p:cNvPr id="522" name="Прямоугольник 11"/>
          <p:cNvSpPr/>
          <p:nvPr/>
        </p:nvSpPr>
        <p:spPr>
          <a:xfrm>
            <a:off x="2209680" y="3592440"/>
            <a:ext cx="475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25-18 Профилактика ветряной оспы и опоясывающего лишая.</a:t>
            </a:r>
            <a:endParaRPr b="0" lang="en-US" sz="1800" spc="-1" strike="noStrike">
              <a:solidFill>
                <a:srgbClr val="4d4d4d"/>
              </a:solidFill>
              <a:latin typeface="Arial"/>
            </a:endParaRPr>
          </a:p>
        </p:txBody>
      </p:sp>
      <p:sp>
        <p:nvSpPr>
          <p:cNvPr id="523" name="Прямоугольник 12"/>
          <p:cNvSpPr/>
          <p:nvPr/>
        </p:nvSpPr>
        <p:spPr>
          <a:xfrm>
            <a:off x="2057400" y="457200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42-18 "Профилактика менингококковой инфекции"</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Прямоугольник 2"/>
          <p:cNvSpPr/>
          <p:nvPr/>
        </p:nvSpPr>
        <p:spPr>
          <a:xfrm>
            <a:off x="609480" y="1143000"/>
            <a:ext cx="792504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7-13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рофилактика гриппа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и других острых респираторных вирусных инфекций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25" name="Прямоугольник 1"/>
          <p:cNvSpPr/>
          <p:nvPr/>
        </p:nvSpPr>
        <p:spPr>
          <a:xfrm>
            <a:off x="1371600" y="3962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6-13 Профилактика внебольничных пневмоний.</a:t>
            </a:r>
            <a:endParaRPr b="0" lang="en-US" sz="1800" spc="-1" strike="noStrike">
              <a:solidFill>
                <a:srgbClr val="4d4d4d"/>
              </a:solidFill>
              <a:latin typeface="Arial"/>
            </a:endParaRPr>
          </a:p>
        </p:txBody>
      </p:sp>
      <p:sp>
        <p:nvSpPr>
          <p:cNvPr id="526" name="Прямоугольник 2"/>
          <p:cNvSpPr/>
          <p:nvPr/>
        </p:nvSpPr>
        <p:spPr>
          <a:xfrm>
            <a:off x="914400" y="241308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 9.7 предусматривает принятие решения о приостановлении учебного процесса в детских образовательных организациях (досрочном роспуске школьников на каникулы или их продлении) в случае отсутствия по причине гриппа и ОРВИ 20% и более детей;</a:t>
            </a:r>
            <a:endParaRPr b="0" lang="en-US" sz="1800" spc="-1" strike="noStrike">
              <a:solidFill>
                <a:srgbClr val="4d4d4d"/>
              </a:solidFill>
              <a:latin typeface="Arial"/>
            </a:endParaRPr>
          </a:p>
        </p:txBody>
      </p:sp>
      <p:sp>
        <p:nvSpPr>
          <p:cNvPr id="527" name="Прямоугольник 4"/>
          <p:cNvSpPr/>
          <p:nvPr/>
        </p:nvSpPr>
        <p:spPr>
          <a:xfrm>
            <a:off x="914400" y="46069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6.8. При регистрации случаев ВП в организованных коллективах детей и взрослых проводится комплекс санитарно-противоэпидемических (профилактических) мероприятий, включающий:</a:t>
            </a:r>
            <a:endParaRPr b="0" lang="en-US" sz="18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общение детей: более 2-х случаев в классах - закрытие классов, более 10-ти случаев в образовательном учреждении - временное приостановление деятельности учреждения сроком до 10-ти дней;</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4792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951-11 Профилактика полиомиелита.</a:t>
            </a:r>
            <a:endParaRPr b="0" lang="en-US" sz="2000" spc="-1" strike="noStrike">
              <a:solidFill>
                <a:srgbClr val="4d4d4d"/>
              </a:solidFill>
              <a:latin typeface="Arial"/>
            </a:endParaRPr>
          </a:p>
        </p:txBody>
      </p:sp>
      <p:sp>
        <p:nvSpPr>
          <p:cNvPr id="529" name="Прямоугольник 2"/>
          <p:cNvSpPr/>
          <p:nvPr/>
        </p:nvSpPr>
        <p:spPr>
          <a:xfrm>
            <a:off x="914400" y="2895480"/>
            <a:ext cx="76201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9.5. В медицинских организациях, </a:t>
            </a:r>
            <a:r>
              <a:rPr b="0" lang="ru-RU" sz="2000" spc="-1" strike="noStrike" u="sng">
                <a:solidFill>
                  <a:srgbClr val="000000"/>
                </a:solidFill>
                <a:uFillTx/>
                <a:latin typeface="Times New Roman"/>
                <a:ea typeface="Times New Roman"/>
              </a:rPr>
              <a:t>дошкольных организациях и общеобразовательных учреждениях, </a:t>
            </a:r>
            <a:r>
              <a:rPr b="0" lang="ru-RU" sz="2000" spc="-1" strike="noStrike">
                <a:solidFill>
                  <a:srgbClr val="000000"/>
                </a:solidFill>
                <a:latin typeface="Times New Roman"/>
                <a:ea typeface="Times New Roman"/>
              </a:rPr>
              <a:t>летних оздоровительных организациях </a:t>
            </a:r>
            <a:r>
              <a:rPr b="0" lang="ru-RU" sz="2000" spc="-1" strike="noStrike" u="sng">
                <a:solidFill>
                  <a:srgbClr val="000000"/>
                </a:solidFill>
                <a:uFillTx/>
                <a:latin typeface="Times New Roman"/>
                <a:ea typeface="Times New Roman"/>
              </a:rPr>
              <a:t>детей,</a:t>
            </a:r>
            <a:r>
              <a:rPr b="0" lang="ru-RU" sz="2000" spc="-1" strike="noStrike">
                <a:solidFill>
                  <a:srgbClr val="000000"/>
                </a:solidFill>
                <a:latin typeface="Times New Roman"/>
                <a:ea typeface="Times New Roman"/>
              </a:rPr>
              <a:t> </a:t>
            </a:r>
            <a:r>
              <a:rPr b="0" lang="ru-RU" sz="2000" spc="-1" strike="noStrike" u="sng">
                <a:solidFill>
                  <a:srgbClr val="000000"/>
                </a:solidFill>
                <a:uFillTx/>
                <a:latin typeface="Times New Roman"/>
                <a:ea typeface="Times New Roman"/>
              </a:rPr>
              <a:t>не имеющих </a:t>
            </a:r>
            <a:r>
              <a:rPr b="0" lang="ru-RU" sz="2000" spc="-1" strike="noStrike">
                <a:solidFill>
                  <a:srgbClr val="000000"/>
                </a:solidFill>
                <a:latin typeface="Times New Roman"/>
                <a:ea typeface="Times New Roman"/>
              </a:rPr>
              <a:t>сведений об иммунизации против полиомиелита, </a:t>
            </a:r>
            <a:r>
              <a:rPr b="0" lang="ru-RU" sz="2000" spc="-1" strike="noStrike" u="sng">
                <a:solidFill>
                  <a:srgbClr val="000000"/>
                </a:solidFill>
                <a:uFillTx/>
                <a:latin typeface="Times New Roman"/>
                <a:ea typeface="Times New Roman"/>
              </a:rPr>
              <a:t>не привитых </a:t>
            </a:r>
            <a:r>
              <a:rPr b="0" lang="ru-RU" sz="2000" spc="-1" strike="noStrike">
                <a:solidFill>
                  <a:srgbClr val="000000"/>
                </a:solidFill>
                <a:latin typeface="Times New Roman"/>
                <a:ea typeface="Times New Roman"/>
              </a:rPr>
              <a:t>против полиомиелита или получивших менее 3 доз полиомиелитной вакцины, </a:t>
            </a:r>
            <a:r>
              <a:rPr b="0" lang="ru-RU" sz="2000" spc="-1" strike="noStrike" u="sng">
                <a:solidFill>
                  <a:srgbClr val="000000"/>
                </a:solidFill>
                <a:uFillTx/>
                <a:latin typeface="Times New Roman"/>
                <a:ea typeface="Times New Roman"/>
              </a:rPr>
              <a:t>разобщают с детьми, привитыми</a:t>
            </a:r>
            <a:r>
              <a:rPr b="0" lang="ru-RU" sz="2000" spc="-1" strike="noStrike">
                <a:solidFill>
                  <a:srgbClr val="000000"/>
                </a:solidFill>
                <a:latin typeface="Times New Roman"/>
                <a:ea typeface="Times New Roman"/>
              </a:rPr>
              <a:t> вакциной ОПВ в течение последних 60 дней, </a:t>
            </a:r>
            <a:r>
              <a:rPr b="0" lang="ru-RU" sz="2000" spc="-1" strike="noStrike" u="sng">
                <a:solidFill>
                  <a:srgbClr val="000000"/>
                </a:solidFill>
                <a:uFillTx/>
                <a:latin typeface="Times New Roman"/>
                <a:ea typeface="Times New Roman"/>
              </a:rPr>
              <a:t>на срок 60 дней </a:t>
            </a:r>
            <a:r>
              <a:rPr b="0" lang="ru-RU" sz="2000" spc="-1" strike="noStrike">
                <a:solidFill>
                  <a:srgbClr val="000000"/>
                </a:solidFill>
                <a:latin typeface="Times New Roman"/>
                <a:ea typeface="Times New Roman"/>
              </a:rPr>
              <a:t>с момента получения детьми последней прививки ОПВ.</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Прямоугольник 1"/>
          <p:cNvSpPr/>
          <p:nvPr/>
        </p:nvSpPr>
        <p:spPr>
          <a:xfrm>
            <a:off x="1905120" y="1676520"/>
            <a:ext cx="556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3114-13 Профилактика туберкулеза.</a:t>
            </a:r>
            <a:endParaRPr b="0" lang="en-US" sz="2000" spc="-1" strike="noStrike">
              <a:solidFill>
                <a:srgbClr val="4d4d4d"/>
              </a:solidFill>
              <a:latin typeface="Arial"/>
            </a:endParaRPr>
          </a:p>
        </p:txBody>
      </p:sp>
      <p:sp>
        <p:nvSpPr>
          <p:cNvPr id="531" name="Прямоугольник 2"/>
          <p:cNvSpPr/>
          <p:nvPr/>
        </p:nvSpPr>
        <p:spPr>
          <a:xfrm>
            <a:off x="990720" y="2438280"/>
            <a:ext cx="73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5.7. Дети, направленные на консультацию в противотуберкулезный диспансер,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 не допускаются в детские организации.</a:t>
            </a:r>
            <a:endParaRPr b="0" lang="en-US" sz="20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ти, туберкулинодиагностика которым не проводилась, допускаются в детскую организацию при наличии заключения врача-фтизиатра об отсутствии заболевания.</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2T16:43:13Z</dcterms:created>
  <dc:creator>Юра</dc:creator>
  <dc:description/>
  <dc:language>en-US</dc:language>
  <cp:lastModifiedBy>Гумбатова Инна Владимировна</cp:lastModifiedBy>
  <dcterms:modified xsi:type="dcterms:W3CDTF">2019-11-19T07:26:59Z</dcterms:modified>
  <cp:revision>12</cp:revision>
  <dc:subject/>
  <dc:title>Название презентации</dc:title>
</cp:coreProperties>
</file>